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F1A92-6333-439A-A338-5F4D52249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17F17-0871-4A83-9D60-03D795FBD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759AC-9328-4B7D-801B-FBA6DCE72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04AF8-4E5A-475F-B369-2D798EA0A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943020-7358-4324-ABEF-F3F2842DC8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BC3F6-46CF-4FB4-BB65-9A8510E9F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15F78-07EF-439E-800E-EC14049CA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740B9-7E64-4F2C-A6FC-57C1AB1A9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D3B8E-2D65-4ADA-834A-F5779B9F6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1E1F0-250B-4BAB-9BE2-7AF3937BD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41077-196E-4BB5-AB88-5ECAA1A38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D789B-17EE-4119-B35F-0173F6E93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7E9AE-DC12-4DA1-A720-570E96A14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93EB9-8843-4489-BDB8-41288A4C5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39379-6486-4760-9B32-8E4934F84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807FC-3226-4CF8-9DC3-427E82A3D5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ACE22D-3027-4D2E-9AD5-9F03862C7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30136-7A22-44DD-B2E9-73790A34C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74BAE-96BF-4FA5-A81F-3A74703C3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C6432-B042-4AAE-98F8-8D072A3F2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69A4C-F4FF-409C-BE22-529038425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28E3A-6267-4689-9FA8-E077EEFFF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2F50C-C2E3-477A-B577-36EF6CEDC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AFD89-73F3-4CB7-9F6A-DF1BDE0F9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96b29e"/>
                </a:gs>
                <a:gs pos="100000">
                  <a:srgbClr val="5e706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a5bdac"/>
                </a:gs>
                <a:gs pos="100000">
                  <a:srgbClr val="63726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96b29e"/>
                </a:gs>
                <a:gs pos="100000">
                  <a:srgbClr val="71867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a5bdac"/>
                </a:gs>
                <a:gs pos="100000">
                  <a:srgbClr val="96b29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a5bdac"/>
                </a:gs>
                <a:gs pos="100000">
                  <a:srgbClr val="869a8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a5bdac"/>
                </a:gs>
                <a:gs pos="100000">
                  <a:srgbClr val="77887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a7bead"/>
                </a:gs>
                <a:gs pos="100000">
                  <a:srgbClr val="a5bd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a5bdac"/>
                </a:gs>
                <a:gs pos="100000">
                  <a:srgbClr val="5966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a5bdac"/>
                </a:gs>
                <a:gs pos="100000">
                  <a:srgbClr val="96b29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96b29e"/>
                </a:gs>
                <a:gs pos="100000">
                  <a:srgbClr val="6376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a5bdac"/>
                </a:gs>
                <a:gs pos="100000">
                  <a:srgbClr val="72837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a9c0b0"/>
                </a:gs>
                <a:gs pos="100000">
                  <a:srgbClr val="a5bd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a5bdac"/>
                </a:gs>
                <a:gs pos="100000">
                  <a:srgbClr val="4c574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a5bdac"/>
                </a:gs>
                <a:gs pos="100000">
                  <a:srgbClr val="5460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758b7c"/>
                </a:gs>
                <a:gs pos="100000">
                  <a:srgbClr val="96b29e"/>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acc2b2"/>
                </a:gs>
                <a:gs pos="100000">
                  <a:srgbClr val="a5bd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96b2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637668"/>
                </a:gs>
                <a:gs pos="100000">
                  <a:srgbClr val="96b2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687b6d"/>
                </a:gs>
                <a:gs pos="100000">
                  <a:srgbClr val="96b2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96b2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a5bdac"/>
                </a:gs>
                <a:gs pos="100000">
                  <a:srgbClr val="68776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a5bdac"/>
                </a:gs>
                <a:gs pos="100000">
                  <a:srgbClr val="63726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a5bdac"/>
                </a:gs>
                <a:gs pos="100000">
                  <a:srgbClr val="8b9f9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a5bdac"/>
                </a:gs>
                <a:gs pos="100000">
                  <a:srgbClr val="4f5b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a5bdac"/>
                </a:gs>
                <a:gs pos="100000">
                  <a:srgbClr val="8b9f9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758b7c"/>
                </a:gs>
                <a:gs pos="100000">
                  <a:srgbClr val="96b2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a5bdac"/>
                </a:gs>
                <a:gs pos="100000">
                  <a:srgbClr val="5e6c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a5bdac"/>
                </a:gs>
                <a:gs pos="100000">
                  <a:srgbClr val="7788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a5bdac"/>
                </a:gs>
                <a:gs pos="100000">
                  <a:srgbClr val="81948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a5bdac"/>
                  </a:gs>
                  <a:gs pos="100000">
                    <a:srgbClr val="77887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acc2b2"/>
                  </a:gs>
                  <a:gs pos="100000">
                    <a:srgbClr val="a5bd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DBF37-5454-45CE-A0C1-D14C78D17AA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96b29e"/>
                </a:gs>
                <a:gs pos="100000">
                  <a:srgbClr val="5e706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a5bdac"/>
                </a:gs>
                <a:gs pos="100000">
                  <a:srgbClr val="63726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96b29e"/>
                </a:gs>
                <a:gs pos="100000">
                  <a:srgbClr val="71867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a5bdac"/>
                </a:gs>
                <a:gs pos="100000">
                  <a:srgbClr val="96b29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a5bdac"/>
                </a:gs>
                <a:gs pos="100000">
                  <a:srgbClr val="869a8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a5bdac"/>
                </a:gs>
                <a:gs pos="100000">
                  <a:srgbClr val="77887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a7bead"/>
                </a:gs>
                <a:gs pos="100000">
                  <a:srgbClr val="a5bd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a5bdac"/>
                </a:gs>
                <a:gs pos="100000">
                  <a:srgbClr val="5966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a5bdac"/>
                </a:gs>
                <a:gs pos="100000">
                  <a:srgbClr val="96b29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96b29e"/>
                </a:gs>
                <a:gs pos="100000">
                  <a:srgbClr val="6376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a5bdac"/>
                </a:gs>
                <a:gs pos="100000">
                  <a:srgbClr val="72837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a9c0b0"/>
                </a:gs>
                <a:gs pos="100000">
                  <a:srgbClr val="a5bd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a5bdac"/>
                </a:gs>
                <a:gs pos="100000">
                  <a:srgbClr val="4c574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a5bdac"/>
                </a:gs>
                <a:gs pos="100000">
                  <a:srgbClr val="5460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758b7c"/>
                </a:gs>
                <a:gs pos="100000">
                  <a:srgbClr val="96b29e"/>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acc2b2"/>
                </a:gs>
                <a:gs pos="100000">
                  <a:srgbClr val="a5bd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96b2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637668"/>
                </a:gs>
                <a:gs pos="100000">
                  <a:srgbClr val="96b2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687b6d"/>
                </a:gs>
                <a:gs pos="100000">
                  <a:srgbClr val="96b2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96b2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a5bdac"/>
                </a:gs>
                <a:gs pos="100000">
                  <a:srgbClr val="68776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a5bdac"/>
                </a:gs>
                <a:gs pos="100000">
                  <a:srgbClr val="63726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a5bdac"/>
                </a:gs>
                <a:gs pos="100000">
                  <a:srgbClr val="8b9f9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a5bdac"/>
                </a:gs>
                <a:gs pos="100000">
                  <a:srgbClr val="4f5b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a5bdac"/>
                </a:gs>
                <a:gs pos="100000">
                  <a:srgbClr val="8b9f9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758b7c"/>
                </a:gs>
                <a:gs pos="100000">
                  <a:srgbClr val="96b2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a5bdac"/>
                </a:gs>
                <a:gs pos="100000">
                  <a:srgbClr val="5e6c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a5bdac"/>
                </a:gs>
                <a:gs pos="100000">
                  <a:srgbClr val="7788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a5bdac"/>
                </a:gs>
                <a:gs pos="100000">
                  <a:srgbClr val="81948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a5bdac"/>
                  </a:gs>
                  <a:gs pos="100000">
                    <a:srgbClr val="77887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acc2b2"/>
                  </a:gs>
                  <a:gs pos="100000">
                    <a:srgbClr val="a5bd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Click to edit the title text format</a:t>
            </a:r>
            <a:endParaRPr b="0" lang="en-US" sz="4800" spc="-1" strike="noStrike">
              <a:solidFill>
                <a:srgbClr val="ffffcc"/>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69D5-5791-4341-B225-B2D52569CC0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2f71b9"/>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54ca89"/>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A Brief History of the Holocaust </a:t>
            </a:r>
            <a:endParaRPr b="0" lang="en-US" sz="48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cc"/>
                </a:solidFill>
                <a:latin typeface="Arial"/>
              </a:rPr>
              <a:t>Gas Chambers</a:t>
            </a:r>
            <a:br>
              <a:rPr sz="4000"/>
            </a:br>
            <a:endParaRPr b="0" lang="en-US" sz="4000" spc="-1" strike="noStrike">
              <a:solidFill>
                <a:srgbClr val="ffffcc"/>
              </a:solidFill>
              <a:latin typeface="Arial"/>
            </a:endParaRPr>
          </a:p>
        </p:txBody>
      </p:sp>
      <p:sp>
        <p:nvSpPr>
          <p:cNvPr id="17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9, Nazis began experimenting killing disabled people with gas using carbon monoxide</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zis began using gas chambers after guards began suffering from fatigue and mental anguish from mass killings; gas chambers was also less costly than using ammunition, and a more efficient way of achieving the “Final Solution”</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42, permanent buildings were raised in camps. Victims were told they were taking a shower and were told to raise their arms above their heads so that more people could fit in the showers and be suffocated more quickly from the gas</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Transportation to </a:t>
            </a:r>
            <a:br>
              <a:rPr sz="4000"/>
            </a:br>
            <a:r>
              <a:rPr b="0" lang="en-US" sz="4000" spc="-1" strike="noStrike">
                <a:solidFill>
                  <a:srgbClr val="ffffcc"/>
                </a:solidFill>
                <a:latin typeface="Arial"/>
              </a:rPr>
              <a:t>Concentration Camps</a:t>
            </a:r>
            <a:endParaRPr b="0" lang="en-US" sz="4000" spc="-1" strike="noStrike">
              <a:solidFill>
                <a:srgbClr val="ffffcc"/>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ws and others were forced into large railway cars to be transported to concentration camp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ips often took several days.  People were so crammed into the cars that there was only standing room.  The prisoners were given no food or water.  They also had no place to go to the bathroom.  People who were crushed to death or died in transport were left in the cars with the living.  Prisoners had no fresh air and the smell was putrid.  </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ne Frank</a:t>
            </a:r>
            <a:endParaRPr b="0" lang="en-US" sz="4400" spc="-1" strike="noStrike">
              <a:solidFill>
                <a:srgbClr val="ffffcc"/>
              </a:solidFill>
              <a:latin typeface="Arial"/>
            </a:endParaRPr>
          </a:p>
        </p:txBody>
      </p:sp>
      <p:grpSp>
        <p:nvGrpSpPr>
          <p:cNvPr id="183" name=""/>
          <p:cNvGrpSpPr/>
          <p:nvPr/>
        </p:nvGrpSpPr>
        <p:grpSpPr>
          <a:xfrm>
            <a:off x="457200" y="1600200"/>
            <a:ext cx="3429000" cy="4530600"/>
            <a:chOff x="457200" y="1600200"/>
            <a:chExt cx="3429000" cy="4530600"/>
          </a:xfrm>
        </p:grpSpPr>
        <p:pic>
          <p:nvPicPr>
            <p:cNvPr id="184" name="" descr=""/>
            <p:cNvPicPr/>
            <p:nvPr/>
          </p:nvPicPr>
          <p:blipFill>
            <a:blip r:embed="rId1"/>
            <a:stretch/>
          </p:blipFill>
          <p:spPr>
            <a:xfrm>
              <a:off x="457200" y="1600200"/>
              <a:ext cx="3429000" cy="4530600"/>
            </a:xfrm>
            <a:prstGeom prst="rect">
              <a:avLst/>
            </a:prstGeom>
            <a:ln w="0">
              <a:noFill/>
            </a:ln>
          </p:spPr>
        </p:pic>
        <p:sp>
          <p:nvSpPr>
            <p:cNvPr id="185" name=""/>
            <p:cNvSpPr txBox="1"/>
            <p:nvPr/>
          </p:nvSpPr>
          <p:spPr>
            <a:xfrm>
              <a:off x="457200" y="1600200"/>
              <a:ext cx="34290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186" name="PlaceHolder 2"/>
          <p:cNvSpPr>
            <a:spLocks noGrp="1"/>
          </p:cNvSpPr>
          <p:nvPr>
            <p:ph/>
          </p:nvPr>
        </p:nvSpPr>
        <p:spPr>
          <a:xfrm>
            <a:off x="4038480" y="1523520"/>
            <a:ext cx="4648320" cy="460692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e Frank was a Jewish girl who grew up during the Holocaust in Germany</a:t>
            </a: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nti-Semitic laws began being passed her father mover her family to Amsterdam</a:t>
            </a:r>
            <a:endParaRPr b="0" lang="en-US" sz="2000" spc="-1" strike="noStrike">
              <a:solidFill>
                <a:srgbClr val="ffffff"/>
              </a:solidFill>
              <a:latin typeface="Arial"/>
            </a:endParaRPr>
          </a:p>
          <a:p>
            <a:pPr marL="343080" indent="-343080">
              <a:lnSpc>
                <a:spcPct val="9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July of 1942 until 1945, Anne, her family, and a few others lived in a small space above her father’s office.</a:t>
            </a:r>
            <a:endParaRPr b="0" lang="en-US" sz="2000" spc="-1" strike="noStrike">
              <a:solidFill>
                <a:srgbClr val="ffffff"/>
              </a:solidFill>
              <a:latin typeface="Arial"/>
            </a:endParaRPr>
          </a:p>
          <a:p>
            <a:pPr marL="343080" indent="-343080">
              <a:lnSpc>
                <a:spcPct val="9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e was betrayed and transported to </a:t>
            </a:r>
            <a:r>
              <a:rPr b="0" lang="en-AU" sz="2000" spc="-1" strike="noStrike">
                <a:solidFill>
                  <a:srgbClr val="ffffff"/>
                </a:solidFill>
                <a:latin typeface="Arial"/>
              </a:rPr>
              <a:t>Bergen Belsen where she died early March 1945.</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locaust</a:t>
            </a:r>
            <a:endParaRPr b="0" lang="en-US" sz="4400" spc="-1" strike="noStrike">
              <a:solidFill>
                <a:srgbClr val="ffffcc"/>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WW II Nazi Germany murdered 6,000,000 Jews (about 2/3 of the entire European Jewish population); and 11,000,000 people altogether including homosexuals, disabled people, Poles, Russians, gypsies, Jehovah’s Witnesses, Communists, and Socialist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olocaust” is used to refer to the systematic and government-sponsored killings of Jewish people</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olocaust” also means “sacrifice by fire”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enocide</a:t>
            </a:r>
            <a:endParaRPr b="0" lang="en-US" sz="4400" spc="-1" strike="noStrike">
              <a:solidFill>
                <a:srgbClr val="ffffcc"/>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eno” is the Greek term for ra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ide” is the Latin term for kill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enocide” became a word in 1944 to describe the mass killings of the Jewish ra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71600" y="320400"/>
            <a:ext cx="8215200" cy="79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nti-Jewish Laws</a:t>
            </a:r>
            <a:endParaRPr b="0" lang="en-US" sz="4000" spc="-1" strike="noStrike">
              <a:solidFill>
                <a:srgbClr val="ffffcc"/>
              </a:solidFill>
              <a:latin typeface="Arial"/>
            </a:endParaRPr>
          </a:p>
        </p:txBody>
      </p:sp>
      <p:sp>
        <p:nvSpPr>
          <p:cNvPr id="168" name="PlaceHolder 2"/>
          <p:cNvSpPr>
            <a:spLocks noGrp="1"/>
          </p:cNvSpPr>
          <p:nvPr>
            <p:ph/>
          </p:nvPr>
        </p:nvSpPr>
        <p:spPr>
          <a:xfrm>
            <a:off x="457200" y="1066680"/>
            <a:ext cx="8229600" cy="609624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 to page 388 of your text book</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69" name="" descr=""/>
          <p:cNvPicPr/>
          <p:nvPr/>
        </p:nvPicPr>
        <p:blipFill>
          <a:blip r:embed="rId2"/>
          <a:stretch/>
        </p:blipFill>
        <p:spPr>
          <a:xfrm>
            <a:off x="1523880" y="1828800"/>
            <a:ext cx="6096240" cy="4572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Jewish Ghettos</a:t>
            </a:r>
            <a:endParaRPr b="0" lang="en-US" sz="4400" spc="-1" strike="noStrike">
              <a:solidFill>
                <a:srgbClr val="ffffcc"/>
              </a:solidFill>
              <a:latin typeface="Arial"/>
            </a:endParaRPr>
          </a:p>
        </p:txBody>
      </p:sp>
      <p:sp>
        <p:nvSpPr>
          <p:cNvPr id="171"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77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uring WWII, Nazis forced Jews to live in ghettos, or enclosed areas</a:t>
            </a:r>
            <a:endParaRPr b="0" lang="en-US" sz="3100" spc="-1" strike="noStrike">
              <a:solidFill>
                <a:srgbClr val="ffffff"/>
              </a:solidFill>
              <a:latin typeface="Arial"/>
            </a:endParaRPr>
          </a:p>
          <a:p>
            <a:pPr marL="343080" indent="-343080">
              <a:lnSpc>
                <a:spcPct val="80000"/>
              </a:lnSpc>
              <a:spcBef>
                <a:spcPts val="7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hettos isolated Jews </a:t>
            </a:r>
            <a:endParaRPr b="0" lang="en-US" sz="3100" spc="-1" strike="noStrike">
              <a:solidFill>
                <a:srgbClr val="ffffff"/>
              </a:solidFill>
              <a:latin typeface="Arial"/>
            </a:endParaRPr>
          </a:p>
          <a:p>
            <a:pPr marL="343080" indent="-343080">
              <a:lnSpc>
                <a:spcPct val="80000"/>
              </a:lnSpc>
              <a:spcBef>
                <a:spcPts val="7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hettos were closed off by barbed wire or wood fences. </a:t>
            </a:r>
            <a:endParaRPr b="0" lang="en-US" sz="3100" spc="-1" strike="noStrike">
              <a:solidFill>
                <a:srgbClr val="ffffff"/>
              </a:solidFill>
              <a:latin typeface="Arial"/>
            </a:endParaRPr>
          </a:p>
          <a:p>
            <a:pPr marL="343080" indent="-343080">
              <a:lnSpc>
                <a:spcPct val="80000"/>
              </a:lnSpc>
              <a:spcBef>
                <a:spcPts val="7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hettos were unsanitary and extremely crowded. Inhabitants suffered from lack of food, clothing, medicine, and starvation. </a:t>
            </a:r>
            <a:endParaRPr b="0" lang="en-US" sz="3100" spc="-1" strike="noStrike">
              <a:solidFill>
                <a:srgbClr val="ffffff"/>
              </a:solidFill>
              <a:latin typeface="Arial"/>
            </a:endParaRPr>
          </a:p>
          <a:p>
            <a:pPr marL="343080" indent="-343080">
              <a:lnSpc>
                <a:spcPct val="80000"/>
              </a:lnSpc>
              <a:spcBef>
                <a:spcPts val="7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largest ghetto was in Poland.  About 450,000 Jews were forced to live in a 1.3 mile area.  </a:t>
            </a:r>
            <a:endParaRPr b="0" lang="en-US" sz="31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Final Solution</a:t>
            </a:r>
            <a:endParaRPr b="0" lang="en-US" sz="4400" spc="-1" strike="noStrike">
              <a:solidFill>
                <a:srgbClr val="ffffcc"/>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41, Hitler drew up “The Final Solution,” a plan to murder all European Jew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zis began destroying the 800 ghettos, killing Jews in the ghettos, or transporting them to killing centers or concentration camp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ncentration Camps</a:t>
            </a: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ntration camps are places where people are confined under harsh conditions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soners were given little food and clothing</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ually all known Jews were sent to concentration camps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s chambers were built at four camps as a means of killing Jews; crematoriums or incinerators were also used</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page 392 for a map of concentration camps</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oncentration Camps, Con’t.</a:t>
            </a:r>
            <a:endParaRPr b="0" lang="en-US" sz="4000" spc="-1" strike="noStrike">
              <a:solidFill>
                <a:srgbClr val="ffffcc"/>
              </a:solidFill>
              <a:latin typeface="Arial"/>
            </a:endParaRPr>
          </a:p>
        </p:txBody>
      </p:sp>
      <p:sp>
        <p:nvSpPr>
          <p:cNvPr id="177"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entration camps were also the sites of medical experiments that were not safe enough to be performed on “peopl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experiments included seeing how long people could survive under sub-human condition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8T05:42:48Z</dcterms:created>
  <dc:creator> </dc:creator>
  <dc:description/>
  <dc:language>en-US</dc:language>
  <cp:lastModifiedBy>vanweringhdoulisi</cp:lastModifiedBy>
  <dcterms:modified xsi:type="dcterms:W3CDTF">2009-04-28T01:11:07Z</dcterms:modified>
  <cp:revision>19</cp:revision>
  <dc:subject/>
  <dc:title>A Brief History of the Holocaust </dc:title>
</cp:coreProperties>
</file>